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D76F2-FE4F-435F-A28F-B7A28FEC840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617C1-4A66-4AEA-95CA-237B6CBEF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5B319-D6DC-46D9-9359-1DCF91F3E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F2611-55AA-4524-862D-67AE67C23B8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EF224C-9A90-4862-99C8-7C25043CD74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E97EFA-24A6-4922-A47D-3A22F38E9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1824B8-F997-4C03-B8FE-E66F18D37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CF08FC-00F1-492B-AC69-DE03E5F59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83C898-BCF3-4345-95BC-B5FE253A4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ADB1AA-BA42-4513-B6F8-5790CBD95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2AF425-3F8F-43CD-9CD0-058710B93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86689-CCF4-480A-A513-28005BEE4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A263F7-B91E-4633-AF7A-BEF4D1673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CB892E-8A7E-423D-8A9A-5F3D9A59B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8AA47C-D66A-412B-8197-31C6DF961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224141-B4CE-4109-A6CE-FB89E83B5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5721D3-44EC-4B76-8C58-E574AD889A0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107BA-5195-4AFB-9392-6C5CBF433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F909E-A102-41F9-9DA1-06E1496EE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A5001-E34B-4CA6-8B9E-EC6D3ACC0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CE561-DFBA-40F5-A93F-35D114E06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CD8AF-3FFD-42CC-885F-FDF8D4765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5E4B8-A4BB-45F4-B148-691F03CE6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DDAF6-AE26-404A-8775-747BE2751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0320" y="250920"/>
            <a:ext cx="8380440" cy="1272960"/>
          </a:xfrm>
          <a:prstGeom prst="rect">
            <a:avLst/>
          </a:prstGeom>
          <a:solidFill>
            <a:srgbClr val="33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solidFill>
            <a:srgbClr val="33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4538520" y="6746760"/>
            <a:ext cx="4332600" cy="65160"/>
            <a:chOff x="4538520" y="6746760"/>
            <a:chExt cx="4332600" cy="65160"/>
          </a:xfrm>
        </p:grpSpPr>
        <p:sp>
          <p:nvSpPr>
            <p:cNvPr id="3" name=""/>
            <p:cNvSpPr/>
            <p:nvPr/>
          </p:nvSpPr>
          <p:spPr>
            <a:xfrm>
              <a:off x="4538520" y="6746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148360" y="6746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57840" y="6746760"/>
              <a:ext cx="651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367320" y="6746760"/>
              <a:ext cx="651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977160" y="6746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586640" y="6746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196120" y="6746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805960" y="6746760"/>
              <a:ext cx="651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5DF55-6179-4CE3-8CE4-D095C029F5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804960" y="73080"/>
            <a:ext cx="66600" cy="111240"/>
          </a:xfrm>
          <a:prstGeom prst="ellipse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804960" y="303120"/>
            <a:ext cx="66600" cy="109800"/>
          </a:xfrm>
          <a:prstGeom prst="ellipse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804960" y="530280"/>
            <a:ext cx="66600" cy="109440"/>
          </a:xfrm>
          <a:prstGeom prst="ellipse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685800" y="6470640"/>
            <a:ext cx="3505320" cy="379440"/>
          </a:xfrm>
          <a:prstGeom prst="rect">
            <a:avLst/>
          </a:prstGeom>
          <a:solidFill>
            <a:srgbClr val="33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" name="" descr=""/>
          <p:cNvPicPr/>
          <p:nvPr/>
        </p:nvPicPr>
        <p:blipFill>
          <a:blip r:embed="rId2"/>
          <a:srcRect l="1886" t="18999" r="84769" b="76291"/>
          <a:stretch/>
        </p:blipFill>
        <p:spPr>
          <a:xfrm>
            <a:off x="698400" y="6534000"/>
            <a:ext cx="1371600" cy="304920"/>
          </a:xfrm>
          <a:prstGeom prst="rect">
            <a:avLst/>
          </a:prstGeom>
          <a:ln w="0">
            <a:noFill/>
          </a:ln>
        </p:spPr>
      </p:pic>
      <p:sp>
        <p:nvSpPr>
          <p:cNvPr id="19" name=""/>
          <p:cNvSpPr/>
          <p:nvPr/>
        </p:nvSpPr>
        <p:spPr>
          <a:xfrm>
            <a:off x="2209680" y="6610320"/>
            <a:ext cx="2210040" cy="2476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www.asesoriasonline.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8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70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8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80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C5AA5-7B49-47C0-8054-29A91ACF64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371600" y="2527200"/>
            <a:ext cx="6934320" cy="33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e61a"/>
                </a:solidFill>
                <a:latin typeface="Bookman Old Style"/>
              </a:rPr>
              <a:t>CÓMO VALORAR SU EMPRE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rcRect l="1886" t="18999" r="84769" b="76291"/>
          <a:stretch/>
        </p:blipFill>
        <p:spPr>
          <a:xfrm>
            <a:off x="698400" y="6545160"/>
            <a:ext cx="1371600" cy="304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209680" y="6608880"/>
            <a:ext cx="2210040" cy="2491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ww.asesoriasonline.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447920" y="6248520"/>
            <a:ext cx="6134040" cy="266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736560"/>
            <a:ext cx="91440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FINANZAS EMPRESARI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04920" y="177768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Bookman Old Style"/>
              </a:rPr>
              <a:t>3.- Por lo que Gene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Flujo de Fondos actualiz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(por periodo a considerar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Valor de la Empre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447920" y="6248520"/>
            <a:ext cx="6134040" cy="266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736560"/>
            <a:ext cx="91440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FINANZAS EMPRESARI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724280" y="1295280"/>
            <a:ext cx="4419720" cy="4572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Cómo valorar su empre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6840" y="177768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Bookman Old Style"/>
              </a:rPr>
              <a:t>3.- Por lo que Genera - Concep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La Empresa vale por su Generación de Fondos po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el período que se estima razonable  y trayend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estos Flujos futuros a pesos de hoy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47920" y="6248520"/>
            <a:ext cx="6134040" cy="266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736560"/>
            <a:ext cx="91440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FINANZAS EMPRESARI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724280" y="1295280"/>
            <a:ext cx="4419720" cy="4572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Cómo valorar su empre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28600" y="1545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Bookman Old Style"/>
              </a:rPr>
              <a:t>3.- Por lo que Genera - Período a Consider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Dependiendo de la Estabilidad de la Empresa/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Industria se considera un período entre 5 a 10 años</a:t>
            </a: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47920" y="6248520"/>
            <a:ext cx="6134040" cy="266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736560"/>
            <a:ext cx="91440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FINANZAS EMPRESARI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1295280"/>
            <a:ext cx="4419720" cy="4572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Cómo valorar su empre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685800" y="17776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Bookman Old Style"/>
              </a:rPr>
              <a:t>3.- Por lo que Genera - El Flujo de Fon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Resultado + Depreciación</a:t>
            </a: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47920" y="6248520"/>
            <a:ext cx="6134040" cy="266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736560"/>
            <a:ext cx="91440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FINANZAS EMPRESARI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724280" y="1295280"/>
            <a:ext cx="4419720" cy="4572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Cómo valorar su empre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228600" y="154620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Bookman Old Style"/>
              </a:rPr>
              <a:t>3.- Por lo que genera- Actualizar El Flujo de Fon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Se considera una tasa (%) para descontar los Fluj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de cada año y traerlos a valor actual - moneda 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hoy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Bookman Old Style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447920" y="6248520"/>
            <a:ext cx="6134040" cy="266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736560"/>
            <a:ext cx="91440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FINANZAS EMPRESARI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1295280"/>
            <a:ext cx="4419720" cy="4572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Cómo valorar su empre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685800" y="154944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Bookman Old Style"/>
              </a:rPr>
              <a:t>3.- Por lo que Gene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Bookman Old Style"/>
              </a:rPr>
              <a:t>Ejemp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Período : 5 Añ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Tasa de Descuento : 10 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Flujos Anuales : $ 100 mm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ada Añ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447920" y="6248520"/>
            <a:ext cx="6134040" cy="266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736560"/>
            <a:ext cx="91440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FINANZAS EMPRESARI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724280" y="1295280"/>
            <a:ext cx="4419720" cy="4572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Cómo valorar su empre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447920" y="6248520"/>
            <a:ext cx="6134040" cy="266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228600" y="154908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Bookman Old Style"/>
              </a:rPr>
              <a:t>3.- Por lo que Gener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Bookman Old Style"/>
              </a:rPr>
              <a:t>EJ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ño 1 - $ 100/ (1 + 0,1)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 = $ 90,9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ño 2 - $ 100/ (1 + 0,1) Al Cuadrado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 = $ 82,6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ño 3 - $ 100/ (1 + 0,1) Elevado a Tres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 = $ 75,1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ño 4 - $ 100/ (1 + 0,1) Elevado a Cuatro = $ 87,2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ño 5 - $ 100/ (1 + 0,1) Elevado a Cinco   = $ 62,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Bookman Old Style"/>
              </a:rPr>
              <a:t>VALOR  DE LA EMPRESA                 </a:t>
            </a:r>
            <a:r>
              <a:rPr b="1" i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Bookman Old Style"/>
              </a:rPr>
              <a:t>   = $ 401.0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736560"/>
            <a:ext cx="91440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FINANZAS EMPRESARI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724280" y="1295280"/>
            <a:ext cx="4419720" cy="4572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Cómo valorar su empre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304920" y="155268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Bookman Old Style"/>
              </a:rPr>
              <a:t>3.- Por lo que Genera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Bookman Old Style"/>
              </a:rPr>
              <a:t>Que significa este ejemp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Que un inversionista que se plantea un horizont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de 5 años para recuperar su inversión y le exig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un 10 % de retorno anual </a:t>
            </a:r>
            <a:r>
              <a:rPr b="1" i="1" lang="en-US" sz="2400" spc="-1" strike="noStrike">
                <a:solidFill>
                  <a:srgbClr val="ffffff"/>
                </a:solidFill>
                <a:latin typeface="Bookman Old Style"/>
              </a:rPr>
              <a:t>valoraría esta empres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Bookman Old Style"/>
              </a:rPr>
              <a:t>en $ 400 mill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447920" y="6248520"/>
            <a:ext cx="6134040" cy="266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736560"/>
            <a:ext cx="91440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FINANZAS EMPRESARI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724280" y="1295280"/>
            <a:ext cx="4419720" cy="4572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Cómo valorar su empre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304920" y="1558440"/>
            <a:ext cx="85341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Bookman Old Style"/>
              </a:rPr>
              <a:t>3.- Por lo que Gene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i="1" lang="es-ES_tradnl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Bookman Old Style"/>
              </a:rPr>
              <a:t>La Fortaleza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 reside en su capacidad de  Generar Fond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Bookman Old Style"/>
              </a:rPr>
              <a:t>    </a:t>
            </a:r>
            <a:r>
              <a:rPr b="1" i="1" lang="es-ES_tradnl" sz="2400" spc="-1" strike="noStrike">
                <a:solidFill>
                  <a:srgbClr val="ffffff"/>
                </a:solidFill>
                <a:latin typeface="Bookman Old Style"/>
              </a:rPr>
              <a:t>Ej: 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Toda empresa producti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6248520"/>
            <a:ext cx="6134040" cy="266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736560"/>
            <a:ext cx="91440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FINANZAS EMPRESARI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724280" y="1295280"/>
            <a:ext cx="4419720" cy="4572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Cómo valorar su empre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57200" y="17780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El valor que un comprador estará dispuesto 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pagar por el total o parte de la empresa será un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combinación de los factores antes mencion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447920" y="6248520"/>
            <a:ext cx="6134040" cy="266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736560"/>
            <a:ext cx="91440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FINANZAS EMPRESARI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724280" y="1295280"/>
            <a:ext cx="4419720" cy="4572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Cómo valorar su empre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228600" y="155592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El valor de la Empresa está dado por lo qu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la Empresa es y por lo que represen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447920" y="6248520"/>
            <a:ext cx="6134040" cy="266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736560"/>
            <a:ext cx="91440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FINANZAS EMPRESARI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724280" y="1295280"/>
            <a:ext cx="4419720" cy="4572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Cómo valorar su empre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304920" y="15462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El valor de la empresa existe sólo cuando el mercad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está dispuesto a pagar dicho valor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447920" y="6248520"/>
            <a:ext cx="6134040" cy="266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736560"/>
            <a:ext cx="91440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FINANZAS EMPRESARI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724280" y="1295280"/>
            <a:ext cx="4419720" cy="4572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Cómo valorar su empre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838080"/>
            <a:ext cx="9144000" cy="56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cc33"/>
                </a:solidFill>
                <a:latin typeface="Bookman Old Style"/>
              </a:rPr>
              <a:t>   </a:t>
            </a:r>
            <a:r>
              <a:rPr b="1" lang="es-ES_tradnl" sz="4000" spc="-1" strike="noStrike">
                <a:solidFill>
                  <a:srgbClr val="b1e61a"/>
                </a:solidFill>
                <a:latin typeface="Bookman Old Style"/>
              </a:rPr>
              <a:t>FINANZAS EMPRESARIAL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Bookman Old Style"/>
              </a:rPr>
              <a:t>es un aporte d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Bookman Old Style"/>
              </a:rPr>
              <a:t>al desarrollo d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Bookman Old Style"/>
              </a:rPr>
              <a:t>la mediana y pequeña empresa de Chile</a:t>
            </a:r>
            <a:r>
              <a:rPr b="1" lang="es-ES_tradnl" sz="28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s-ES_tradnl" sz="4000" spc="-1" strike="noStrike">
                <a:solidFill>
                  <a:srgbClr val="ff99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447920" y="6248520"/>
            <a:ext cx="6134040" cy="266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1886" t="18999" r="84769" b="76291"/>
          <a:stretch/>
        </p:blipFill>
        <p:spPr>
          <a:xfrm>
            <a:off x="3200400" y="3809880"/>
            <a:ext cx="2590920" cy="5749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2895480" y="2895480"/>
            <a:ext cx="3200400" cy="53352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ww.asesoriasonline.c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228600" y="177768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lternativa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1.- Por sus Activos Re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2.- Por lo que Representa (por sus activos intangibl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3.- Por los Fondos que Gener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447920" y="6248520"/>
            <a:ext cx="6134040" cy="266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736560"/>
            <a:ext cx="91440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FINANZAS EMPRESARI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724280" y="1295280"/>
            <a:ext cx="4419720" cy="4572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Cómo valorar su empre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85800" y="1796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Bookman Old Style"/>
              </a:rPr>
              <a:t>1.- Por sus Activos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ctivos - Pasivos = </a:t>
            </a: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Valor de la Empre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7920" y="6248520"/>
            <a:ext cx="6134040" cy="266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736560"/>
            <a:ext cx="91440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FINANZAS EMPRESARI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724280" y="1295280"/>
            <a:ext cx="4419720" cy="4572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Cómo valorar su empre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04920" y="155592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592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Bookman Old Style"/>
              </a:rPr>
              <a:t>1.- Por sus Activos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Bookman Old Style"/>
              </a:rPr>
              <a:t>La Fortaleza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reside más que nada en el valor de sus activ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Bookman Old Style"/>
              </a:rPr>
              <a:t>Ejemplos: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Inmobiliar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Emp. de Invers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447920" y="6248520"/>
            <a:ext cx="6134040" cy="266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736560"/>
            <a:ext cx="91440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FINANZAS EMPRESARI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724280" y="1295280"/>
            <a:ext cx="4419720" cy="4572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Cómo valorar su empre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04920" y="154944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Bookman Old Style"/>
              </a:rPr>
              <a:t>1.- Por sus Activos - Cas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.-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Una empresa cuyos Activos son edificios y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terren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b.-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Una empresa productiva de baja rentabilidad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pero cuyas instalaciones tienen un alto valo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omo desarrollo urbano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47920" y="6248520"/>
            <a:ext cx="6134040" cy="266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736560"/>
            <a:ext cx="91440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FINANZAS EMPRESARI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724280" y="1295280"/>
            <a:ext cx="4419720" cy="4572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Cómo valorar su empre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685800" y="177768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Bookman Old Style"/>
              </a:rPr>
              <a:t>2.- Por lo que Represen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osto de lograr Participación de Mercado/ Beneficio por la salida de un competido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Bookman Old Style"/>
              </a:rPr>
              <a:t>Valor de la Empresa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447920" y="6248520"/>
            <a:ext cx="6134040" cy="266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736560"/>
            <a:ext cx="91440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FINANZAS EMPRESARI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724280" y="1295280"/>
            <a:ext cx="4419720" cy="4572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Cómo valorar su empre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533520" y="1034640"/>
            <a:ext cx="815328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Bookman Old Style"/>
              </a:rPr>
              <a:t>2.- Por lo que Represen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Bookman Old Style"/>
              </a:rPr>
              <a:t>La Fortaleza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está en su posición estratégica 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mercado o dentro de la indust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Bookman Old Style"/>
              </a:rPr>
              <a:t>Ejemplos: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Empresas con un % importante de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mercado o del abastecimiento/ produc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447920" y="6248520"/>
            <a:ext cx="6134040" cy="266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736560"/>
            <a:ext cx="91440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FINANZAS EMPRESARI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724280" y="1295280"/>
            <a:ext cx="4419720" cy="4572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Cómo valorar su empre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228600" y="17967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Bookman Old Style"/>
              </a:rPr>
              <a:t>2.- Por lo que Representa - Cas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.-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La salida del mercado de Avant significó un  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umento en precios/ margen para el re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b.-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oca - Cola y Pepsi - Cola compran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embotelladoras con marcas propias para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umentar su participación de mercado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447920" y="6248520"/>
            <a:ext cx="6134040" cy="266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736560"/>
            <a:ext cx="91440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FINANZAS EMPRESARI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1295280"/>
            <a:ext cx="4419720" cy="4572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Cómo valorar su empre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4T02:31:53Z</dcterms:created>
  <dc:creator>Ricardo Almazán</dc:creator>
  <dc:description/>
  <dc:language>en-US</dc:language>
  <cp:lastModifiedBy>Oscar Vaquero</cp:lastModifiedBy>
  <dcterms:modified xsi:type="dcterms:W3CDTF">2001-07-19T22:29:41Z</dcterms:modified>
  <cp:revision>33</cp:revision>
  <dc:subject/>
  <dc:title>WWW.ASESORIASONLINE.CL</dc:title>
</cp:coreProperties>
</file>